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7.wmf" ContentType="image/x-wmf"/>
  <Override PartName="/ppt/media/image21.jpeg" ContentType="image/jpeg"/>
  <Override PartName="/ppt/media/image16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4.jpeg" ContentType="image/jpeg"/>
  <Override PartName="/ppt/media/image1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BA55-49A9-4E24-9C3C-8C6BC0666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7920-9BBE-4896-BAD0-BF250123A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481E4C-D661-4431-A4E2-7C2BC4331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B1C4BA-8508-4DE2-A851-73FFF208B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1069920" y="301680"/>
            <a:ext cx="7772400" cy="31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58296C-54AC-42BA-AD58-A617395E8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A072BE-939F-41D7-995F-7BCF1505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115A41-E6BE-4822-8831-45843CBD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2E2470-5FCE-4AE0-9D65-E7DEC001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348249-D2BC-48CB-A666-D5A5E7987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A62BAB-7EF4-485C-AC86-9DCD89CAA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797412-FBEA-4847-9E25-A12E28649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08BBAF-16AD-4A48-BFEA-D1393C84B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DB62-67CB-4D76-8BF1-C8B6D4FCB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7FE6D5-F2F7-4ED1-83F5-C3372C24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47948A-2833-448B-898F-8735B239D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C51AE4-6DDF-4004-9643-870039F1F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DBE53E-7D8E-4A6B-8A9E-6EC34A2A4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1069920" y="301680"/>
            <a:ext cx="7772400" cy="31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280C7C-94B2-4DCD-AEEF-50CB4C6F3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B30AD5-3DBA-48EB-A30C-EBD87564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212B75-A7E1-4A75-AC96-CB7D04C5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77DD45-167A-45F8-9DA4-85DDDCC5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A71768-51F8-4B29-BBEE-1EE65156D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21C967-F0FE-4255-BD10-7C9F3336B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A539-6A14-43DB-8956-BD443ED2A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686C41-0572-42F7-A6C5-AB46CFC4D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F5C39E-95EF-48F1-9732-804F614D3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2A52C8-D88D-4E5E-86D2-D108E40FA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C88732-DBC8-43D7-884F-A26AD1244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6CF9B0-06A7-476C-8BA5-8EAB036AA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C0CD90-7F77-4698-82F4-42B67A696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069920" y="301680"/>
            <a:ext cx="7772400" cy="31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B95087-BA77-4D3F-B52D-0C2F9CFF2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DCAFE2-D49E-476A-8217-9EA44D39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E4063C-93DE-42B8-83E5-BF801740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1C7B38-4C21-4FB6-9B8A-70E39106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84F94-A8E6-4DD9-96A6-D11BC8D9F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6F4014-6EBA-461B-A5C8-64C435E9E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A79467-2EE9-4659-AEC7-B2FE2998E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7799D3-6CA2-4E3C-BF1D-C2BD07E4D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A375F3-C814-4478-9D76-5871A40E8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248CD2-0F87-4B77-A9A8-06503DC6A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BD445B-EE99-41D1-8573-011A525E9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144961-C060-4EE1-8F97-09D2063CA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4E186B-6A40-4144-A2E8-666005DF4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1069920" y="301680"/>
            <a:ext cx="7772400" cy="31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86AEC2-EDC2-4CA5-9716-7CB33CBF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C2205C-AB6B-45DC-9D4C-0FC867D9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68186-483E-4415-9050-B3113CFB0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D0BEDD-7221-4754-997F-52AFCE36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B56C83-EA4D-4887-8407-6FBF5E1D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687ADB-E527-4080-9746-ECD53546B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D2A9A3-3233-4DBA-8D2D-3F4D852FC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C60ADE-64C7-4C8B-97A1-60E5E2459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C41879-81D2-4987-897D-A94CD4C16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5C11AB-622F-46BD-B789-65D20DB6A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0D0997-0131-4E5A-B940-66CF7E108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0413D0-2CB5-4A40-A624-E9E98E82F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444906-C1A8-49D0-A1AD-75ED06CEC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56777-8354-4E99-AE28-183DD5596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1069920" y="301680"/>
            <a:ext cx="7772400" cy="31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1DCFF3-7994-49B9-A1C6-8D1EEF93A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AB269E-83A1-4C9C-95D1-BED39B03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C4BC20-0062-40CA-A524-E3C3DA69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FBBD2E-98BE-4F55-B54A-00358C2B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118D5A-652F-4CB7-97A9-59201B821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64FB86-A5DF-4BC3-8C0D-2D167F15B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01A626-AB63-4633-8DD5-9415FBE9B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11BE57-B0EA-4F02-B288-9A72DF338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31661A-C02B-443F-801E-8B94B2F92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3B7DAC-F8FB-43EC-B673-053C8D3E4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F1189-F330-479F-A060-AFD26A08F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A1C570-6211-4151-9F69-20017AD0A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8FF664-1F9C-4D5E-B6E1-9ECF65CC2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1069920" y="301680"/>
            <a:ext cx="7772400" cy="31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D5B29C-88BC-449F-B486-F2B191591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149DF0-7511-41A5-8FE2-B7D0B83B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101139-FD24-4AB5-8602-22FC6B31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2B0B57-5BD6-40D7-A6B9-5CF1639F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2F2BE7-FCFA-4ACA-A12B-226D5DCA1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2DA146-6598-425F-91F6-4CED3B5A0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75D376-8A34-4FB9-A512-A7335855D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B064C-4B47-49FD-A846-29E819346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69920" y="301680"/>
            <a:ext cx="7772400" cy="31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2E545-53EB-48D6-B6D0-DEC849551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9C839-505C-4EBA-84E6-9B14A5D4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0BFF-889A-4351-BCCF-CD072ECF3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A8FD6-2320-43CD-A788-A2596C78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4E1D0-AFA2-472E-A467-10BA10D7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EF6C1-5EC4-49C2-BEDE-E81A2034D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4150A-7F00-4BC7-842C-07301274C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E65D2-B3B3-44A0-B363-DD73647F2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825CF-BD99-4025-BE19-79BBAB152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084E6-D038-433F-AB49-B219DB65E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7CD92-4107-4EEE-841F-E79717E6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4EB6A-5908-4757-B428-704F6D011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F6778-A98A-4C98-A864-106AE263E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411D-A662-432B-9D23-0B404B8DD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069920" y="301680"/>
            <a:ext cx="7772400" cy="31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CD61A-1911-4F4D-A130-B21F87CE7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FAB23-1F0E-4EFB-AB4D-031B588D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DD40C-EC0E-45D1-A294-F748A2F8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E440B-FBAC-4A6A-93E5-7C1A70AE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BE094-17B7-4364-8B21-534617BD5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84D5C-ABF8-4256-9D95-7D5C28E58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D8D54-7629-4E95-A2C7-A3C594D5B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7627F-AC63-40E4-98C9-977E941BA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AFF49-FB00-4103-B4DE-E895FB617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4546E-388E-47F0-94E8-7190E6207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02F5-0C44-43B1-98B1-58AC89881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E1483-54C2-4BE6-9514-EE234D18F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A714F-83B9-42B4-BD8F-871F623ED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069920" y="301680"/>
            <a:ext cx="7772400" cy="31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DA64F-F49C-4D9C-A6EB-D893A4B4F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F213E-4D72-403E-874A-25172F57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B0F47-84F8-4C6B-B002-AAD6ECC1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16EC8-2DAB-4E59-8A92-129ACF3E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2ACD8-18AC-4254-80C4-75410421E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0A8C2-880B-4B04-BF4D-C85AAC2C2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994D3-79E1-4815-9BD2-B31CD5943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15E4B-C580-407A-9FB8-261D3569B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A5D2-A5D3-4683-B372-2046B9996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1ECE9-7CB9-484C-A18E-89C30A233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1AAD5-CD2A-4B56-8410-13521FCC4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D56C8-2E08-4C43-8AD1-C033C50CF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D5ACA-98C1-46CA-B8F3-654ABA5B4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1069920" y="301680"/>
            <a:ext cx="7772400" cy="31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FF3BA-B599-41C4-84E3-515C55736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FF81E-9B22-4F03-8A34-337B237E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89819-E80B-482B-B784-0DE160A9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DFFF3-34D9-40D6-A136-4DC50EEE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A4EE3-BE8D-46A0-8774-034A3F60D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4D073-C12A-43C8-BC11-F1AE6A075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9920" y="301680"/>
            <a:ext cx="7772400" cy="31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426D-CC40-4E70-91ED-95566D89F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6F755-E24C-4B52-9A9D-D4B1C7261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C4A9BE-5F56-4DEC-8120-E54F81663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A76A2-AF67-4CB9-9EC6-9A26585B5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296D4-BEC9-4218-9638-46ADCD44A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F3E12A-E03B-4974-84F4-45D71C150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865CD-6D2B-494E-902A-893DCFADD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1069920" y="301680"/>
            <a:ext cx="7772400" cy="31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1C3B3-E4AB-4A0C-AB4E-0F3369AAB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6AD3F5-D939-4122-875A-D961AFFD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36B59-4891-4E45-95AE-6AF680CC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D8214-58F8-402E-810C-A5C898A1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8872-1EA0-4E71-8B6B-321FABEE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9FB73-A634-4DD5-855A-66E2668FF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60A4CA-A357-4BF8-A757-52E44913F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4E2A4-3767-4CAA-8A40-11D6D7991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F2BA9B-BBCB-44A2-A3B6-65645FE55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6F8C6-FC71-487D-A5BD-D87165C3E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BEAA9-8C07-429D-8761-42F680E5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C0B0DC-6D83-46FD-93B5-5D858D779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69EB31-1581-469D-8E5E-5DF9ECABE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1069920" y="301680"/>
            <a:ext cx="7772400" cy="31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D36F65-4139-4B8B-AB6C-D8A2DBDE7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73F8EB-8236-4AC0-A038-EB32654A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C4DA-277B-425F-B79F-3E06A471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B351E7-5901-415B-B28B-78505112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13407-771D-4B0D-AABD-8EC6F8B4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5A2B7-ED48-43EB-9427-AB8FBDD90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719780-BDF8-47AA-9EF2-7F2B1F6FA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1AF9BF-A5AE-4FEE-BC51-0DC53E179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6E9077-1206-47EE-8C23-83CFCFC19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7A8527-7A06-4222-AE54-379823F61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92C753-8E4B-43EF-8556-8A513742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C920D4-07C5-4ED3-9B5D-1D088A8EC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EC212B-CDB2-4D7F-A685-77A977FFD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222E-F0BF-4570-92F8-55C6B35B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1069920" y="301680"/>
            <a:ext cx="7772400" cy="31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E6D1F6-1D6A-4663-8C89-258617F6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AD11D-46F7-4B2C-9A74-127B3A08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443866-A058-4B00-8DD6-F033D578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AF33F7-2771-4942-B84E-320A9564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76BD2-0216-452B-9372-C0C0FCE6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AB4479-15FC-46E5-B0B4-4DBD4E661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F5FFF4-2F9B-404E-93A2-9BC216D63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E1DA31-1A8A-4618-BCE6-2F4241B0B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FF0D00-D7C9-4C21-B33D-E21B127D5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6992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CA3FBA-C37C-43FA-8387-2971A3FA0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E7A54-883C-4C95-90D3-105C0157C9E5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914400" cy="888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7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914400" cy="88884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C130A-C8F0-449B-BEB8-26A11CD7D133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7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914400" cy="88884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FFBEA-D0C3-41DC-ADA9-9D8DB7EE441E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7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914400" cy="88884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E2900-F9C1-4FEE-9626-A1C696825303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7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914400" cy="88884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6C99C-39AD-4D3C-988B-DFE6F6FF64D5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7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914400" cy="88884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8D35C-3AE2-45BC-B308-0BA370BB901D}" type="datetime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2F03B-E49C-4130-A299-CDCB682D0A63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914400" cy="8888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0D71A-CD38-48F4-8286-119620411083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914400" cy="8888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B009B-ECB8-473A-857F-173178BC2093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914400" cy="8888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6112D-8ACD-4EAE-9412-C104E08F78B3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7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914400" cy="8888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93673-F881-45AC-84BB-8B716F172053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7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914400" cy="88884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787E3-2DAF-4353-B93F-CB21285E50A6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7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914400" cy="88884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44791-8AFB-41A2-AFA2-18778E8F38CE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7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914400" cy="88884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096DE-677B-401A-8369-EFDF6F877CDD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914400" cy="88884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794ED-314F-41BD-AAC8-88CA34419EE2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2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418760" y="825480"/>
            <a:ext cx="7086600" cy="106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2A Transmitte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rvice Trai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200"/>
          <p:cNvSpPr/>
          <p:nvPr/>
        </p:nvSpPr>
        <p:spPr>
          <a:xfrm>
            <a:off x="4335480" y="3822840"/>
            <a:ext cx="182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1" descr="M2A Front View.psd"/>
          <p:cNvPicPr/>
          <p:nvPr/>
        </p:nvPicPr>
        <p:blipFill>
          <a:blip r:embed="rId1"/>
          <a:stretch/>
        </p:blipFill>
        <p:spPr>
          <a:xfrm>
            <a:off x="3430440" y="2120760"/>
            <a:ext cx="2845080" cy="4127760"/>
          </a:xfrm>
          <a:prstGeom prst="rect">
            <a:avLst/>
          </a:prstGeom>
          <a:ln w="0">
            <a:noFill/>
          </a:ln>
        </p:spPr>
      </p:pic>
      <p:sp>
        <p:nvSpPr>
          <p:cNvPr id="591" name="TextBox 1"/>
          <p:cNvSpPr/>
          <p:nvPr/>
        </p:nvSpPr>
        <p:spPr>
          <a:xfrm>
            <a:off x="379800" y="63118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v. 8-5-1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 Intrusive Calib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Content Placeholder 6" descr="M2A Cal 6.jpg"/>
          <p:cNvPicPr/>
          <p:nvPr/>
        </p:nvPicPr>
        <p:blipFill>
          <a:blip r:embed="rId1"/>
          <a:srcRect l="-9481" t="0" r="-9481" b="0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2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 will be displayed if zero is successf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unable to set to fresh air values, FAIL will be display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ace sensor then perform zero ag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0E5E3-B951-474A-8BF7-697DAE10FFEF}" type="slidenum">
              <a:rPr b="1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 Intrusive Calib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FreshAir adjustment is completed, new value will be saved in mem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Content Placeholder 6" descr="M2A Cal 7.jpg"/>
          <p:cNvPicPr/>
          <p:nvPr/>
        </p:nvPicPr>
        <p:blipFill>
          <a:blip r:embed="rId1"/>
          <a:srcRect l="-9481" t="0" r="-9481" b="0"/>
          <a:stretch/>
        </p:blipFill>
        <p:spPr>
          <a:xfrm>
            <a:off x="4800600" y="16128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32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5BADB-1FBE-4E6E-A0E0-84F30843C307}" type="slidenum">
              <a:rPr b="1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 Intrusive Calib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Content Placeholder 6" descr="M2A Cal 8A.jpg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3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ment will ask if you want to SPAN with Cal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magnet over UP/YES Hall effect swit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6FCE9-0122-42F3-920B-848AF6014C81}" type="slidenum">
              <a:rPr b="1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 Intrusive Calib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2A will indicate SPAN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Content Placeholder 6" descr="M2A Cal 8B.jpg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42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2058D-4825-4D8A-B6D3-38DB8AF17A64}" type="slidenum">
              <a:rPr b="1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 Intrusive Calib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Content Placeholder 6" descr="M2A Cal 9.jpg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4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ach span gas cylinder to regula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ach calibration cup to sensor and turn on regula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91E0E-9F1E-46F9-B625-7D44BCA3E20E}" type="slidenum">
              <a:rPr b="1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 Intrusive Calib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gas reading to stabil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of 2 minu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Content Placeholder 6" descr="M2A Cal 10.jpg"/>
          <p:cNvPicPr/>
          <p:nvPr/>
        </p:nvPicPr>
        <p:blipFill>
          <a:blip r:embed="rId1"/>
          <a:srcRect l="-9481" t="0" r="-9481" b="0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52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A681D-0597-4546-BCEA-862C8749314C}" type="slidenum">
              <a:rPr b="1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 Intrusive Calib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Content Placeholder 6" descr="M2A Cal 11.jpg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5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magnet over UP/YES Hall effect switch and adjust span for maximum value to determine headroom of the sens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9AD9E-E7C0-4DAD-945F-9EA19DB0A828}" type="slidenum">
              <a:rPr b="1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 Intrusive Calib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he magnet over the DOWN/NO Hall effect switch and adjust reading to calibration point. Then place magnet over ENTER Hall effect switch to s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Content Placeholder 6" descr="M2A Cal 12.jpg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62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D5F9F-7F54-48AB-9EBE-F45852D3C0B6}" type="slidenum">
              <a:rPr b="1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 Intrusive Calib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Content Placeholder 6" descr="M2A Cal 13.jpg"/>
          <p:cNvPicPr/>
          <p:nvPr/>
        </p:nvPicPr>
        <p:blipFill>
          <a:blip r:embed="rId1"/>
          <a:srcRect l="-9481" t="0" r="-9481" b="0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6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completed, new SPAN value will  be saved in mem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calibration cup from sensor and turn off regula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61D46-A680-4AD7-8F7A-A82525C01EE4}" type="slidenum">
              <a:rPr b="1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 Intrusive Calib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2A will allow sensor reading to stabilize and return to normal ope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Content Placeholder 6" descr="M2A Cal 14.jpg"/>
          <p:cNvPicPr/>
          <p:nvPr/>
        </p:nvPicPr>
        <p:blipFill>
          <a:blip r:embed="rId1"/>
          <a:srcRect l="-9481" t="0" r="-9481" b="0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72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80192-7CA8-4021-A9C3-F4ADCBA61530}" type="slidenum">
              <a:rPr b="1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ransmitter Specification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power: 10-30 VDC, 0.160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ing: Explosion Proof Class I Div. 1 Group B,C, and D, epoxy-coated aluminum, NEMA 4X 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mensions: 8.5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 x 5.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 x 4.5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: 4.5 l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 Range: -40C to 75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ng:  Indoor or outdoor locations Max humidity: 95% RH (non-condens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y contact rating: 5A @ 115/220V- Form C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l output: 4-20 mA, 500 Ohms impedance max, and RS-485 Mod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sor with Cal Adap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 sensor mounted on ceiling with remote calibration adapter and tubing install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Content Placeholder 6" descr="Remote Cal UPS.jpg"/>
          <p:cNvPicPr/>
          <p:nvPr/>
        </p:nvPicPr>
        <p:blipFill>
          <a:blip r:embed="rId1"/>
          <a:srcRect l="-29304" t="0" r="-29304" b="0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77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07F06-ED62-43AF-A184-77EA668E48E7}" type="slidenum">
              <a:rPr b="1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ote Cal Tub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te calibration tubing provides a convenient way to apply calibration gas to the sens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Content Placeholder 6" descr="test line location.jpeg"/>
          <p:cNvPicPr/>
          <p:nvPr/>
        </p:nvPicPr>
        <p:blipFill>
          <a:blip r:embed="rId1"/>
          <a:srcRect l="0" t="0" r="-7685" b="-6392"/>
          <a:stretch/>
        </p:blipFill>
        <p:spPr>
          <a:xfrm rot="5400000">
            <a:off x="4009680" y="2037960"/>
            <a:ext cx="5207040" cy="4432320"/>
          </a:xfrm>
          <a:prstGeom prst="rect">
            <a:avLst/>
          </a:prstGeom>
          <a:ln w="0">
            <a:noFill/>
          </a:ln>
        </p:spPr>
      </p:pic>
      <p:sp>
        <p:nvSpPr>
          <p:cNvPr id="682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3BE2-BFB0-45DA-ABFE-C90C7A4D53B1}" type="slidenum">
              <a:rPr b="1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ote Cal Adap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Content Placeholder 6" descr="Remote Cal IR.jpg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8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sensors using a remote calibration adapter, it may be required to use a higher flow regulator, especially in high ventilation are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 sensor with remote calibration adapter sh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81283-1A52-4B67-9289-6BB19E71E7B2}" type="slidenum">
              <a:rPr b="1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ote Cal Adap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Content Placeholder 6" descr="Remote Cal Others.jpg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9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te calibration adapter for catalytic bead LEL sensor sh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09124-DB31-4F56-8C85-EB554BFD6CCF}" type="slidenum">
              <a:rPr b="1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guration M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Picture 1" descr="M2A Front View.psd"/>
          <p:cNvPicPr/>
          <p:nvPr/>
        </p:nvPicPr>
        <p:blipFill>
          <a:blip r:embed="rId1"/>
          <a:stretch/>
        </p:blipFill>
        <p:spPr>
          <a:xfrm>
            <a:off x="3430440" y="2120760"/>
            <a:ext cx="2845080" cy="412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guration M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s the UP/YES and ENTER buttons to enter the CONFIG m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Content Placeholder 6" descr="M2A Config 1.jpg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99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BF9C0-44C8-4B32-A532-0B60A76E8EB3}" type="slidenum">
              <a:rPr b="1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guration M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749160" y="1600200"/>
            <a:ext cx="7569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figuration Mode allows the user to change the M2A Transmitt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parame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figuration Mode includes a 5 minute time out feature if a control button is not pressed for 5 minu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guration M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4" name="Content Placeholder 6" descr="M2A Config 2.jpg"/>
          <p:cNvPicPr/>
          <p:nvPr/>
        </p:nvPicPr>
        <p:blipFill>
          <a:blip r:embed="rId1"/>
          <a:srcRect l="-9481" t="0" r="-9481" b="0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70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s the UP/YES button to contin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F3C34-ECF9-4072-9D26-FF3AB67FBB4E}" type="slidenum">
              <a:rPr b="1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guration M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guration Mo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arm-1 (Set Poi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arm-1 (activation-Increase/Decrea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arm-1 (relay action N.DE-EN or N. 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arm-1 (relay reset LATCH or SELF-R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1 OnDY (alarm On delay, 1 sec st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Content Placeholder 6" descr="M2A Config 3.jpg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711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A50E9-1A6A-4D17-AD5E-ED787E5A8914}" type="slidenum">
              <a:rPr b="1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guration M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ARM-2 (lev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ARM-2 (activation Increase/Decrea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ARM-2 (relay action N. DE-EN / N. 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ARM-2 (relay reset, LATCH/SELF-R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2 OnDy (alarm 2 On delay, 1 sec. st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roSupp (0.5% for O2, 2% of scale for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ter (5 sec.)  reduces jumpy or noisy sig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 Time (15 minutes) adjustable from 5 minutes to 30 minu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C5E75-8ED3-4E30-B85F-861DBD7D9299}" type="slidenum">
              <a:rPr b="1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Internal Description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Picture 1" descr="Figure 9.jpg"/>
          <p:cNvPicPr/>
          <p:nvPr/>
        </p:nvPicPr>
        <p:blipFill>
          <a:blip r:embed="rId1"/>
          <a:stretch/>
        </p:blipFill>
        <p:spPr>
          <a:xfrm>
            <a:off x="1239840" y="1257480"/>
            <a:ext cx="6726240" cy="519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s 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in normal operation, press and HOLD the YES and DOWN/NO buttons for five seco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ease when display shows Select Gas Typ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Content Placeholder 9" descr="M2A Gas Type.jpg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721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C7937-8C58-4B03-836A-69C650A86122}" type="slidenum">
              <a:rPr b="1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s 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dependent on the type of M2A that you ha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s the UP/YES button to select gas ty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gas type is selected M2A will ask if you want to save cha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s UP/YES button to save chan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26A6C-92D8-4CED-A00B-60899B93BE69}" type="slidenum">
              <a:rPr b="1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158840" y="326520"/>
            <a:ext cx="777240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ctor 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9" name=""/>
          <p:cNvGraphicFramePr/>
          <p:nvPr/>
        </p:nvGraphicFramePr>
        <p:xfrm>
          <a:off x="457200" y="1600200"/>
          <a:ext cx="8229600" cy="3809880"/>
        </p:xfrm>
        <a:graphic>
          <a:graphicData uri="http://schemas.openxmlformats.org/drawingml/2006/table">
            <a:tbl>
              <a:tblPr/>
              <a:tblGrid>
                <a:gridCol w="2070000"/>
                <a:gridCol w="6159600"/>
              </a:tblGrid>
              <a:tr h="517680"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or Head Input Typ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5760" rIns="9576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2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 H2S detector is connected to the M2A Transmitter with 2 wires using the TOX + and - terminals from the detector/transmitter terminal strips. 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5760" rIns="9576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CO detector is connected to the M2A Transmitter with 2 wires using the TOX + and - terminals from the detector/transmitter terminal strips. 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5760" rIns="9576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XYGE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 oxygen detector is connected to the M2A Transmitter with 2 wires using the OXY + and - terminals from the detector/transmitter terminal strips. 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5760" rIns="9576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 LEL detector head is wired to the M2A Transmitter with 4 wires using the LEL BLK, GRN, WHT, and RED terminals. 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-20 mA Output Op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enter calibration mode the output is fixed at 3.5 mA or 17.4 mA for O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Transmitters input power decreases below 9.5 Volts and is in low power alarm.  Output is fixed below 2.4 mA until power alarm cle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Transmitter goes into fail condition after 30 second delay.  Output is fixed below. 2.4 mA until fault alarm cle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E573B-7955-4B8C-9CE7-B7C480F83D05}" type="slidenum">
              <a:rPr b="1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ouble Shoo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3335-42D8-4F39-BD4E-8151A2C2E732}" type="slidenum">
              <a:rPr b="1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7" name="Object 5"/>
          <p:cNvGraphicFramePr/>
          <p:nvPr/>
        </p:nvGraphicFramePr>
        <p:xfrm>
          <a:off x="1409760" y="1238400"/>
          <a:ext cx="6451560" cy="52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9760" y="1238400"/>
                    <a:ext cx="6451560" cy="52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14B0A-E5D3-4E53-A38D-BAED1107C48D}" type="datetime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07/29/26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63E1B-7CFF-47BD-B799-9F280A951004}" type="slidenum">
              <a:rPr b="1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2" name="Picture 1" descr=""/>
          <p:cNvPicPr/>
          <p:nvPr/>
        </p:nvPicPr>
        <p:blipFill>
          <a:blip r:embed="rId1"/>
          <a:stretch/>
        </p:blipFill>
        <p:spPr>
          <a:xfrm>
            <a:off x="2743200" y="2197080"/>
            <a:ext cx="3657600" cy="246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ib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1" descr="M2A Front View.psd"/>
          <p:cNvPicPr/>
          <p:nvPr/>
        </p:nvPicPr>
        <p:blipFill>
          <a:blip r:embed="rId1"/>
          <a:stretch/>
        </p:blipFill>
        <p:spPr>
          <a:xfrm>
            <a:off x="3430440" y="2120760"/>
            <a:ext cx="2845080" cy="412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 Intrusive Calib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magnetic wand, place magnet over UP/YES Hall effect switch to engage Calibration M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Content Placeholder 7" descr="M2A Cal 1.jpg"/>
          <p:cNvPicPr/>
          <p:nvPr/>
        </p:nvPicPr>
        <p:blipFill>
          <a:blip r:embed="rId1"/>
          <a:srcRect l="-9481" t="0" r="-9481" b="0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0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0F8D6-BDF7-4064-9264-E397F0287236}" type="slidenum">
              <a:rPr b="1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 Intrusive Calib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Content Placeholder 6" descr="M2A Cal 2.jpg"/>
          <p:cNvPicPr/>
          <p:nvPr/>
        </p:nvPicPr>
        <p:blipFill>
          <a:blip r:embed="rId1"/>
          <a:srcRect l="-9481" t="0" r="-9481" b="0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0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alib? YES/NO is displayed, touch magnet to glass where UP/YES Hall effect switch is loc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4EDA9-0791-4A37-93D9-19FF7B21E5F1}" type="slidenum">
              <a:rPr b="1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 Intrusive Calib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 type will be display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mble calibration kit as nee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Content Placeholder 6" descr="M2A Cal 3.jpg"/>
          <p:cNvPicPr/>
          <p:nvPr/>
        </p:nvPicPr>
        <p:blipFill>
          <a:blip r:embed="rId1"/>
          <a:srcRect l="-9481" t="0" r="-9481" b="0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12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24A6D-C3CC-47C4-ABD7-8DDD3FBC1F72}" type="slidenum">
              <a:rPr b="1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 Intrusive Calib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FreshAir Adjust is displayed, touch magnet to UP/YES Hall effect swit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suspect that there may be gas in the atmosphere, use zero air to set FreshAir rea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Content Placeholder 6" descr="M2A Cal 4.jpg"/>
          <p:cNvPicPr/>
          <p:nvPr/>
        </p:nvPicPr>
        <p:blipFill>
          <a:blip r:embed="rId1"/>
          <a:srcRect l="-9481" t="0" r="-9481" b="0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17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696C4-72D6-4987-AD89-09C6AC75A9E3}" type="slidenum">
              <a:rPr b="1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069920" y="30168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 Intrusive Calib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Content Placeholder 6" descr="M2A Cal 5.jpg"/>
          <p:cNvPicPr/>
          <p:nvPr/>
        </p:nvPicPr>
        <p:blipFill>
          <a:blip r:embed="rId1"/>
          <a:srcRect l="-9481" t="0" r="-9481" b="0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2A will adjust to fresh air val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Rev. 3/15/0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19498-B06C-4B6E-8317-8BAA0AC2C27B}" type="slidenum">
              <a:rPr b="1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0:18:30Z</dcterms:created>
  <dc:creator>Steve Peluffo</dc:creator>
  <dc:description>designed for RSM fixed system training</dc:description>
  <cp:keywords>anatomy</cp:keywords>
  <dc:language>en-US</dc:language>
  <cp:lastModifiedBy>Steve Bretzke</cp:lastModifiedBy>
  <cp:lastPrinted>2014-07-09T00:13:27Z</cp:lastPrinted>
  <dcterms:modified xsi:type="dcterms:W3CDTF">2016-09-08T16:31:21Z</dcterms:modified>
  <cp:revision>99</cp:revision>
  <dc:subject>Anatomy of a fixed system</dc:subject>
  <dc:title>Anatomy of a Fixed System</dc:title>
</cp:coreProperties>
</file>